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A7AB-8734-4B95-A390-522653CA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666C-B476-4B51-9A7A-34DC9A68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49B-515A-4C7B-9059-C062915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F71-2EAD-44BF-B57E-A07EDFB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69E-7543-4ADC-9600-174F3AD3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642-0BEE-41A8-8424-A62E4707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7AC6-3DAF-475C-BBF1-D4F10F69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FD30-BD50-401A-95AE-B52E665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59D4-AB16-4518-A856-0B828E7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4DF1-C88F-427C-963D-2EC41A2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5454-6E53-4F59-8235-8675CBE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88F7-8A84-42CD-B2CC-91D2F21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483A-8A0A-4935-8698-0ACAEB0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D37-0A59-402C-A1FC-3823E68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0F8-A30B-48AC-93DF-681A72B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29F8-4A84-402E-BAFC-3F1C1A6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CA69-EC63-4FC5-8814-540D7C9B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3829-7C15-4C97-87BF-66FA7D1D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8ACE-505E-4389-97EF-6686742A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C298-BB72-42C9-A77D-E57E17B8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1FD8-CC8F-461C-AB4A-85BB2FFE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ED38-89C2-42D6-BA1F-B98577E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C22B-2D97-449E-A64D-E99396D0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CE54-B714-4687-8E57-B15D2EA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8FD-144A-46BB-BBC5-02D9DF59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D3E6-A736-4F48-9A9B-D6EFA98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5C6E-667D-4560-B930-C1221AB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373A-C2C4-4A7F-A1A8-042C3FD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3535-7885-438C-8F94-E421A61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0FAF-46B8-43AF-A64D-69F54E3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7456-D6A8-46EF-A615-561489AD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7AFE-3866-4ADC-9CCC-622F58D8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81A4-85A8-42F8-9AE2-899C2E7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C849-6DC2-4145-BA9A-E721577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0253-D1DD-40C1-AC6B-98B0D0C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828-7C68-4260-9D11-D167982C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F012B-733A-4678-B19C-79B42310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4615-86EB-43F4-838B-388B0B5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352C-0E59-4A88-926B-B52AE384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493A-73CB-45AE-A73C-C58CF0D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3658-752C-4E33-8859-5C9F26D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849B-A42B-4364-B69C-70FCCD5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05F5-B480-4041-B600-A93C0674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0801-DA23-46E0-AFEC-506692AB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5129-85AE-4191-82FF-E3819AFD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FE8A-5EAB-4D79-9D80-D8C61F63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817-C5EA-4049-A266-3DCAA134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A704-BF13-4048-84F3-D60B9579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B781-906E-472C-B825-8422F7B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93EB-5EAE-4C8B-9D2F-48493C6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50BEA-0145-4816-8876-BF74EE3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EE3E-E50E-45F8-A993-C5072AA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EDD2A-84EE-4862-A0E5-E1CBD499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B761-6DB0-4915-91EA-969D20E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3BB2-2902-43DE-9FCF-6B54537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4C30E-E1CB-400D-9429-D9690586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42A9-E559-4438-BC40-F816BB0B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770-731F-4A62-950C-53DB7480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63D3-DB5D-487E-94C8-F39D8DDB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8A07-D929-4257-AEB1-46719FD4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9992-C860-4EF5-9E32-95AD3D93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F81A-3387-46D2-B228-DB62B833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7626-040F-4F3D-A4BF-5AB32AA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7AB2-4295-4E7D-939A-2D5E9736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EA54-30C2-4948-B8ED-B579DCC6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9171-EA31-4DDD-916E-3ACE311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505C-B889-44AA-B42B-7505822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7213-FF75-4B56-9851-D34E2C3E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D22-0ADC-4D71-9A47-CB62F31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7802-F1F6-4FAA-A9D8-D023CE7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4A1C3-248C-4986-B689-C4DC7BA4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5112-D7EA-407C-8276-EAE1D69B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6E83-99EC-4C99-BB93-C1A0BED1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2940-46F2-4611-8C1D-3ECE2009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DBDAF-B583-4AC7-855B-B47FE6D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96CF-E6F2-4090-AADD-7F6A78B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7BDFA-7AF5-4070-ACB4-FD91C24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85C6-F57F-42A3-81E0-EC005C5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4BA26-B7FA-46AC-93AB-6209C3F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9C2-204F-40A4-A498-423F965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C76B2-365F-4228-AEC3-8E964BA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078E-7CBD-4A3B-8134-8E475A08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9AEFE-AF02-4E83-B22F-869E13D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C8E3C-9423-4B8E-8095-E9CCCE6C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D2AC-8F6A-428B-9E2B-61305E78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B60-E3BB-41D8-9869-8B0FDEC0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BFA3-9FDA-441E-84A5-BC2AC29EFD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412C-2D1F-4560-9427-D855D091EF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601-C2E9-4CAD-9B29-79F1A419B9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CCC9-FD45-42D5-8654-87C9DCCF9C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1E95-CC2F-4034-A55B-B7EBB8D7A5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917-A8AA-409B-8287-152B9F943A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84D9-1FB0-4DF5-807C-5992197558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classroomteacher.ca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noralesclara@yahoo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noralesclara@yahoo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80720" y="3885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ra Norales</a:t>
            </a:r>
            <a:br>
              <a:rPr sz="43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D 7201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r. Sharon A. O’Connor-Petrus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28440" y="5335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 MT"/>
              </a:rPr>
              <a:t>Using Technology to Enhance Literacy of ELL’s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Statement of the Hypo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1143000" y="1676520"/>
            <a:ext cx="822960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HR1: To integrate technology based instruction activities to fifteen sixth grade students, for 45 minutes per day over a four week period. This will increase student’s literacy levels  as measured by test scores in the English Language Art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articipa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focus grou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group:  receive 45 minutes technology based instruction and activities dai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group: do not receive technology based instruction and activities daily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tru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497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feren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497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rdeshiri, M., Cohen, Sarah &amp; Cummins, J. (2008). Computer-Supported Scaffolding of Literacy Development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Pedagogies: An International Journal. 4,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4-21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rslan, R.S., Sahin-Kizil, A. (2010). How can the use of blog software facilitates the writing process of English Language Learners?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Computer Assisted Language Learning. Volume 23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3), 183-197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aturay, M., Daloglu, A., &amp;Yildirim, S. (2009). Effects of Web-based Spaced Repetition on Vocabulary Retention of Foreign Language Learner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Eurasian Journal of Educational Research. 34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, 17-3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lack, R.W. (2009). English Language Learners, Fan Communities, and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Century Skill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Adolescent &amp; Adult Literacy. Volume 5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8), 688-697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agiltay, K., Saran, M., &amp; Seferoglu, G. (2009). Mobile Assisted Language Learning: English Pronunciation at Learners’ Fingertip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Eurasian Journal of Educational Research. 34,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7-114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ummins, J. (2009). Transformative Multiliteracies Pedagogy: School-base Strategies for Closing the Achievement Gap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Multiple Voices foe Ethnically Diverse Exceptional Learners. Volume 11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38-5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ummins, J. (2011). Literacy Engagement – Fueling Academic Growth for English Learner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Reading Teacher. Volume 65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42-14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aud, N. M. &amp; Husin, Z. (2004). Developing critical thinking skills in computer-aided extended reading classe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British Journal of Educational Technology. Volum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35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4), 477-48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kes, C. (2005).  Best Practices for Integrating Technology Into English Language Instruction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eir-Tec News Wir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Volume 7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(6), 3-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itzgerald, G., Kelly, P, M.K., &amp; Zha, S. (2006). An Investigation of Communicative Competence of ESL Students Using Electronic Disscussion Board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Research on Technology in Education. Volume 38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3), 349-367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ulger, T. S. &amp; Jimenez-Silva, M. (2009). Enhancing the Writing Development of English Language Learners: Teaching Perceptions of Common Technology in Project-Based Learning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Research in Childhood Education. Volume 2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09-124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ranoff, S. &amp; Whiting, J. (2010) The Effects of Multimedia Input on Comprehension of a Short Story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ESL-EJ: Teaching English as a Second Language or Foreign Language. Volume 14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-10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reen, Timothy. (2005) Using Technology to Help English Language Students Develop Language Skills: A Home and School Connection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Multicultural Education. Winter 2005,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56-59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ggins, S., Smith, H.J., Wall, K. &amp; Miller, J. (2005). Interactive White Boards: boon or bandwagon? A critical review of the literature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Computer Assisted Learning. Volume 21,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1-101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Kuroneko, (2008). The Basics: Chalkboards, Flipcharts, Whiteboards, and Overhead Projectors. </a:t>
            </a:r>
            <a:r>
              <a:rPr b="0" lang="en-US" sz="1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blog.classroomteacher.c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acina, J. (2004/2005). Promoting Language Acquisitions: Technology and English Language Learner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Childhood Education. Volume 8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13-115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ferences (continue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609480" y="838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497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i, J. (2010). Learning vocabulary via computer-assisted scaffolding for text process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 Assisted Language Learning. Volume 2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3), 253-27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opez, Omar S. (2009). The Digital Learning Classroom: Improving English Language Learners’ academic Success in mathematics and reading using interactive whiteboard technology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s &amp; Education. Volume 54,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901-91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dron, Y. N. &amp; Waxman, H.C. (1996). Improving the Teaching and Learning of English Language Learners through Instructional Technology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. International Journal of Instructional Media. Volume 2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4), 341-354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analli, J. (2008). Learning English with The Sims: exploiting authentic computer  simulation games for L2 learn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 Assisted Language Learning. Volume 21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5), 441-45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ance-Roney, J. (2010). Jump Starting Language and Schema for English Language Learners: Teacher-Composed Digital Jumpstarts for Academic Read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Journal of Adolescent &amp; Adult Literacy. Volume 5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5), 386-39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ubinstein-Avila, E., Sox, Amanda. (2009). WebQuests for English Language Learners: Essential Elements for Design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Journal of Adolescents and Adult Literacy. 5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1), 38-48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nyder, I. (1999). Literacy and technology studies: past, present, future. 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ACER Research Conference October 1999: Improving Literacy Learning.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1-16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on, J. (2007). Learners Experiences in Web-based Language Learn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 Assisted Language Learning. Volume 20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1), 21-36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are, P. (2008). Language Learners and Multimedia Literacy In and After School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Pedagogies: An International Journal. 3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37-51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arschauer, M. (2007). Laptops and Literacy: Learning in the Wireless Classroom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Journal of Literacy and Technology. Volume 8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1), 49-53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ite, E.L. &amp; Gillard, S. (2011). Technology-Based Literacy Instruction for English Language Learners. </a:t>
            </a: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Journal of College Teaching &amp; Learning. Volum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6), 1-5.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ppendix 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867800" cy="556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85000"/>
          </a:bodyPr>
          <a:p>
            <a:pPr marL="30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ent Form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ar Parent/Guardian,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am currently a graduate student at Brooklyn College. This semester I am in the process of completing an action research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roject as part of the requirements of my Research I and II course. I would like for your child to be part of a study I will be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ducting. This study will not affect my duties as a teaching professional but rather the information gather will be useful in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elping me understand how the use of technology could increase students' literacy skills.  If you decide to allow your child to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articipate, he/she may be required to complete questionnaires, demographic surveys, and achievement measurements.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y information obtained in connection with this study will remain confidential and will not be disclosed. If you have 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questions or concerns, please feel free to contact me at 347-893-2590 or </a:t>
            </a:r>
            <a:r>
              <a:rPr b="0" lang="en-US" sz="1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noralesclara@yahoo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Thank you in advance for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your cooperation and support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incerely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ara Norale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(parent/guardian) have read and understand the information provided above. I willingly agree to allow my child to participate in this research project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__________________________________                                 _____________________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arent/ Guardian signature                                                             Dat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ppendix 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84872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2f2f2"/>
            </a:solidFill>
            <a:miter/>
          </a:ln>
        </p:spPr>
        <p:txBody>
          <a:bodyPr anchor="t">
            <a:normAutofit fontScale="86000"/>
          </a:bodyPr>
          <a:p>
            <a:pPr marL="313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ent Form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ar Principal ____________________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am currently a graduate student at Brooklyn College. This semester I am in the process of completing an action research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roject as part of the requirements of my Research course. I would like for my students to be part of a study I will be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ducting. This study will not affect my duties as a teaching professional but rather the information gather will be useful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helping me understand how the use of technology could increase students' literacy skills. If parents decide to allow thei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hild  to participate, he/she may be required to complete questionnaires, demographic surveys, and achievemen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easurements.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y information obtained in connection with this study will remain confidential and will not be disclosed. If you have 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questions or concerns, please feel free to contact me at 347-893-2590 or </a:t>
            </a:r>
            <a:r>
              <a:rPr b="0" lang="en-US" sz="1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noralesclara@yahoo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Thank you in advanc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 your cooperation and support.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incerely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ara Norale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_____________________(principal) have read and understand the information provided above. I agree to allow Clara Norales to complete her action research project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__________________________________                                 _____________________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rincipal signature                                                                       Date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3280" y="836640"/>
            <a:ext cx="74678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able of Conten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Introduction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Statement of the Problem (Slide 3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Supporting Theorist (Slide 4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Pros (Slide 5-6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Cons (Slide 7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Instructional Strategies (Slide 8-9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Statement of the Hypothesis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(Slide 10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Appendix (ces) (Slide 11-12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References (Slide 13-14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2314"/>
                </a:solidFill>
                <a:latin typeface="Gill Sans MT"/>
              </a:rPr>
              <a:t>Statement of the Problem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 ELL’s are having a hard time when it comes to learning the English languag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 The computer is an excellent resource for giving students the chance to practice English skills without worrying about the response of other classmates or even the teacher. (Dukes, 2005)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 Technology can also improve students’ motivation to learn (Butler-Pascoe,1997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Supporting Theoris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The World Wide Web has great potential for providing ELL’s the visual and aural stimulation to render new concepts more comprehensible (Cummings, 2009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According to Vygotsky’s (1978) sociocultural theory, learning is facilitated through interaction with the social environment (interpersonal learning) rather than intrapersonal lear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160" y="152280"/>
            <a:ext cx="8534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Review of Related Literatu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685800" y="2514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152280" y="685800"/>
            <a:ext cx="8534520" cy="10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Using technology with English Language Learners (ELL) enables students to construct meaning in a digital environment (Healey &amp; Klinghammer, 20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Multimedia technology can be specially helpful for ELL’s because it can facilitate auditory skill development by intergrading visual representation with sound and animation (Bermudez &amp; Palubo, 1994; Mielke &amp; Flores, 1992-9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Computers allows students to become active learners in a one to one environment. Computers can incorporate various learning strategies as well as accommodate a variety of learning styles (Green, 200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Review of Related Literature (continue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457200" y="11430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762120" y="9144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Computers allows students to become active learners in a one to one environment. Computers can incorporate various learning strategies as well as accommodate a variety of learning styles (Green, 200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Computers can  also aide in vocabulary development as well as verbal language development (Green, 2005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497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Review of Related Literature (continue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Technical Difficulties: Technology doesn’t always work. Computers crash, hardware fails, bulbs burn out…all when you least expect it. (Kuroneco, 2008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In schools with access to technology, the computers most frequently remained underused or figuratively in the closet (Ware, 2008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Teachers and pupils needs training in order to use the technology to its full potential (Higgins, Smith, Wall, &amp; Miller, 2005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tructional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WebQuest are authentic Web-based environment that support inquiry learning (Lacina, 2004/2005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WebQuest are Web-based interdisciplinary learning units that foster collaboration problem solving as students work on tas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Instructional Strategies (continue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01120" indent="-432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Interactive Whiteboard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lifornian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Students are motivated in lessons with IWB because of ‘the high level of interaction – students enjoy interacting physically with the board, manipulating text and images’ (Higgins et al, 2005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lifornian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IWB technology could foster performance parity in academic achievement between ELL and regular students (Lopez, 2009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2:39:42Z</dcterms:created>
  <dc:creator>Administrator</dc:creator>
  <dc:description/>
  <dc:language>en-US</dc:language>
  <cp:lastModifiedBy>Administrator</cp:lastModifiedBy>
  <dcterms:modified xsi:type="dcterms:W3CDTF">2011-12-12T23:05:02Z</dcterms:modified>
  <cp:revision>47</cp:revision>
  <dc:subject/>
  <dc:title>Clara Norales ED 7201T Dr. Sharon A. O’Connor-Petruso Fall 2011 </dc:title>
</cp:coreProperties>
</file>